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A63-BE98-4D16-A4BD-D5906432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F2D-9216-4843-B538-0202512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D82EB-7410-4395-B6FA-9FCD4679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20F9C-9958-409D-8E24-DCA3267D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53CDA-C65D-4048-A4C6-0EAB1722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48E69-AEDD-4001-855B-622D561B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72393-3D02-41A9-8662-169A4951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4FF69-A368-4498-B622-B8C71108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FF318-5F32-4C8A-B33A-C49B81AB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EE8B9-C046-43D3-9B65-1B642852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98458-70DA-40BF-A824-D24E8F2C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22C6B-A442-414B-A78A-35F1588A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AA1-B766-4CBC-BB5B-9856988A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A9DF3-25EE-440D-B2EA-03493E2F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72996-F32A-4922-8324-6D1B402D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3F559-8E6E-4DFD-B856-6CC07DD4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12FAA-69AA-429B-B542-7005D8A2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A1B1B-366C-4607-B37E-50E1566C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01527-D6C1-4AC6-AFAA-C9FB19D2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05DF8-35AE-4042-BB23-B58A044A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66DFC-09D4-46E3-B087-738428E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6D463-97FA-403B-89EA-123832F2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49A4E-B28D-4D78-959A-FDDBD645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AC9-6242-4A54-8F81-E9DFC831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8FF77-6905-485C-92CD-CED3B70A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BF88B-D0C3-4DA3-A405-DBA5AC37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FD19F-D3DA-4DD7-9D37-D972A184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F4095-AD16-416E-9954-6ACE0FFC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C32D2-E8F7-4F91-86B5-5DD9EF6D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BA1B1-4EA3-4D18-BB60-CDF70FC1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E1AC7-9E93-4AE5-8268-CA99BF0E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1595D-1303-408C-B34B-1A0A8412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9793C-8A85-46C7-A12A-21AEA92B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5A0E1-0E66-4B19-8FE2-6F2AB0C2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53ED-9D5E-4D70-9039-6059C67B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4ACD6-113A-425A-8791-707D4391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06659-6BAB-4437-828D-AB2DE47C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137C2-EDD8-478C-9EF4-CA6943FA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A8879-CED0-46C5-B702-8CB8BD7C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FB5BA-7057-4E5C-BE30-0AF22842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15D83-341E-4E9A-9B60-71A9A56D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7EA67-8126-4243-BE3C-93A80FC8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CE56A-488A-43E8-94ED-C3D8EE10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75212-B286-4DEA-81DB-3CDD99E2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A0AE6-F847-4326-A1BC-DDB06EA3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900F-CD76-41CC-9D27-F6F1F117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A80CB-FDF3-4DBF-8A70-9819C11C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83223-626D-460E-9C0C-B26B5CB9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700EF-07F2-4CCE-B921-B7960305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BD3E6-EF99-4258-A1D8-24D19B9E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743E6-5328-439B-BA23-4DB8247E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D34C-9B22-4C09-B194-B7037339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0F0D-9203-4DEB-8A23-72F41FEE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106E-506C-4EB3-8E4A-5720D0EF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8D6F-8B31-4C2E-B752-E332604E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37F3-022E-4B46-B1F9-AC87990C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BED-1213-47DB-B24F-7CEECC0A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B4CB-EBA3-4EAE-9D36-188F1446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D093-2964-46C3-B10C-275CEA40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4356-69B1-4C17-919D-3BD75451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C101-2650-4D85-97BA-1813EB8B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561C-7640-4390-83B2-02EE6621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D425C-F22C-4FCD-84C8-F1204E5A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8E15-C396-48C8-BD8C-BD81B079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FDE6-2F42-40BC-9532-7C903434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7423-9EF2-40FD-BAF7-659E1E0F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0F74-F043-44A4-A629-7B6D6862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98C-199A-46EF-A37F-B4EAAFEB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1413-3D08-4A3A-BFE4-21308683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9F4C-A884-4CE4-8DB9-343003FD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1002-548C-459A-9118-474CC4C7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952C-7992-4259-8833-9F76639B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7831-CEC4-4A75-A301-4A225631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7616-B4CE-4C5B-AE55-7E7C18E1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F79F-0F1A-4EAC-82D2-929D7BD3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0D1B5-80E5-4C20-B501-3797F6C6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CA61-00CA-4B8C-B8C4-4FC44851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1A5DB-D45E-4BDB-B162-3DB73AEE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A8F-A221-45B4-847E-BBFEB0D9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655E8-14C5-4F99-B70C-409B3E1C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8F98F-6E47-4052-A14D-ED978755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ED44E-CF40-428F-B5AE-480F30CA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3228-7129-4F0F-9C32-C63957FC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02F4F-52FA-4409-B607-5BF3D26E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3D4A-E077-491C-A162-6C2325A2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1D9DD-5F58-4C2D-9546-1554ED3B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DB63-4DD4-4B4C-8518-4034D70C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242B4-C8AF-4D2F-91AC-CC21B112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D982D-BD64-49E5-ACD9-D594F353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5F2-6DC9-487F-9B0E-A9ACF130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DFFC-36A1-4F07-86D5-6F15D4FA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34C6-FF11-48B6-93A8-97D29775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05D0E-4CC5-45AC-85D1-0857E095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9D701-3E2B-4C5D-A9BF-EFA66642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78529-3D32-473D-BC1A-6835EEC8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E1E80-16AE-4149-B8D2-CC302BF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D9F26-74E1-4AA3-A9D7-CAC36262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29163-F684-4498-9219-AD8EEBE7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FE6D8-543C-4542-A5FF-2CCE32F4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6E5AD-8E19-4D97-A027-FAA8A027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8C9-8572-4847-AA5A-0FFA1E43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491F-0D00-4C92-97AA-5EC77C49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617BD-D060-48BE-9F6C-F0B0A702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A6FE8-3DD2-4B85-B461-9553585D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B4E96-060C-4642-8D88-35A680C7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4F76B-14C9-47ED-90F3-88EC26AD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AA114-B12D-4162-ACCF-CF788465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F1488-CC11-4681-93DE-14713A5E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F247E-2F6A-40F2-A622-8437FA6F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89EC61-EBAC-4025-BF79-0319F856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02CA0-9D1C-4CFC-9B23-820CD16D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319-E81B-4EAB-B340-8EE66AFF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7114B-FCA1-45C0-9CB0-8CA63300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C1633-C5DA-4F8F-9DDE-C3F8AFAE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57F78-4634-4AEE-BF6B-A3EF11F9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984B0-53D7-42F4-8018-D792477F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1EB65-FD4E-4035-B738-EECD40B4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2BB0D-744D-454A-9CC4-5DF59873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A61CE-E482-4E13-9D61-E42D4902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44834-8454-4509-B5B7-A6AE9D2C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A9C98-AC41-49DB-A656-C46166CD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81B35-6192-48A8-92B6-91DCD6D3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80B-5F8E-4445-8BF1-A0DBDFCB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1965A-A31C-48D7-9C7A-8E2C280F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D9553-B933-4982-965A-907A52C3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2A2C1-F0D6-47C3-8467-E3C3A01C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E456D-2D7B-4FA2-8CF4-D5DC3C8C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2E745-5EF8-499B-930F-C80F9B00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B8BEE-098D-4989-AA98-B44FE0EA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30580-C592-4DCF-B10D-455855C1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E62F1-4BFB-41E9-8903-CFD16BCA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048B5-C283-4BD4-8132-E2D4D1A3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8C2D-2D33-45DA-867C-61F8F6C8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6A1-2856-4C9B-BE91-EC89E8F7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0F3C8-4399-46C8-ADBD-44F87F07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51BAE-B3F2-47A3-BD77-1E5768F7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7EAB6-BA72-4760-99F3-88438B2E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F61C5-65AC-4234-8FF4-C60740F3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CEBAD-6BD8-4542-9A90-04978CBB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0DCA1-3ECE-417D-8AF6-FB5D2F36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F3DA7-F6E3-433C-A507-0580C7B9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E1629-3E10-44D8-9F2B-BCA3CD5C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22E03-3B13-4ABB-9B93-1A44C59D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274AA-BFB0-4275-829B-86E8C96F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95DA-C6F2-4CBE-8456-39EFA2401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4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6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6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8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04E1-7860-4977-8809-CBDDF866E1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53EF-B37A-4A0C-A481-5F8830700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02B3-0432-4206-8989-276A2C633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CC86-C050-4ECF-8F5A-BAEB0B0B2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F420-4D18-42D2-8B75-8986DEA85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FB7A-664D-4C7B-890F-5265F36D4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9069-0F35-45F7-ADA8-F94C183D9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ED7A-20BB-4068-97B2-5915F414C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69D7-E22C-4AB7-88F9-F149E0089B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0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FA64-70ED-4F4D-93FE-0A0E93F080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586A-3222-46AF-90B7-EEDBBB005E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La Mansi</a:t>
            </a:r>
            <a:r>
              <a:rPr b="1" lang="en-US" sz="6600" spc="-1" strike="noStrike">
                <a:solidFill>
                  <a:srgbClr val="ffffb7"/>
                </a:solidFill>
                <a:latin typeface="Arial Black"/>
                <a:ea typeface="Arial"/>
              </a:rPr>
              <a:t>ó</a:t>
            </a: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n!!!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371240" y="15238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ench Script MT"/>
              </a:rPr>
              <a:t>Por Hannah Davidse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5867280" cy="38336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46483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La Mansi</a:t>
            </a:r>
            <a:r>
              <a:rPr b="0" lang="en-US" sz="4800" spc="-1" strike="noStrike">
                <a:solidFill>
                  <a:srgbClr val="e5ffff"/>
                </a:solidFill>
                <a:latin typeface="Tahoma"/>
                <a:ea typeface="Arial"/>
              </a:rPr>
              <a:t>ó</a:t>
            </a: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n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mansion. Es muy moderna y fanta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1828800" y="3048120"/>
            <a:ext cx="5486400" cy="3585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cocina. Es muy grande y increible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4800600" cy="3510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 Es muy lujosa y bonit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/>
          <a:srcRect l="0" t="16073" r="0" b="16073"/>
          <a:stretch/>
        </p:blipFill>
        <p:spPr>
          <a:xfrm>
            <a:off x="1752480" y="2819520"/>
            <a:ext cx="4800600" cy="3257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419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. Es muy moderno y nuev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762800" cy="3162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463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Ba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ñ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b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. Es muy fabuloso y estupendo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486400" cy="283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muy lujoso y estupen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4686480" cy="3047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503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Pat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patio. Es muy grande y boni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jard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Arial"/>
              </a:rPr>
              <a:t>í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ja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. Es muy bello y gran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2362320" y="3200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8:18Z</dcterms:created>
  <dc:creator>davidsenhan</dc:creator>
  <dc:description/>
  <dc:language>en-US</dc:language>
  <cp:lastModifiedBy>davidsenhan</cp:lastModifiedBy>
  <dcterms:modified xsi:type="dcterms:W3CDTF">2011-10-26T13:41:53Z</dcterms:modified>
  <cp:revision>7</cp:revision>
  <dc:subject/>
  <dc:title>La Mansion!!!</dc:title>
</cp:coreProperties>
</file>